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A24-7DE6-4BE2-96F6-825BCE47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C0C-C291-4C81-9E87-C6C871A9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8E5-48A1-47CA-BA7F-C5DC4053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92C-0628-41C3-9647-6C97C9C3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147-050C-4F0A-ABD8-059EBF66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997-9C40-4B83-9003-1172ED2E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076-D0B6-484B-8EF2-FC06447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7B7-3F25-4382-8332-97A3A94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334-0097-4D9F-B835-72453E3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2F8-7E4A-438F-86C8-69B6F63D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41D-42A9-4B2F-BE7A-436449A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B67-FFF7-4492-B69E-2167A82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74F-8C51-48AA-8515-CD411F615C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CRAIGS                                  WHITECRAIGS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0" descr="Whitecraigs 2.JPG"/>
          <p:cNvPicPr/>
          <p:nvPr/>
        </p:nvPicPr>
        <p:blipFill>
          <a:blip r:embed="rId1"/>
          <a:stretch/>
        </p:blipFill>
        <p:spPr>
          <a:xfrm>
            <a:off x="415800" y="333360"/>
            <a:ext cx="1152720" cy="12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Whitecraigs 50th.JPG"/>
          <p:cNvPicPr/>
          <p:nvPr/>
        </p:nvPicPr>
        <p:blipFill>
          <a:blip r:embed="rId2"/>
          <a:stretch/>
        </p:blipFill>
        <p:spPr>
          <a:xfrm>
            <a:off x="2073240" y="333360"/>
            <a:ext cx="124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43:42Z</dcterms:modified>
  <cp:revision>22</cp:revision>
  <dc:subject/>
  <dc:title>PowerPoint Presentation</dc:title>
</cp:coreProperties>
</file>